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8BA-9AF9-40BF-9A40-7F8A69F3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716-DCF3-4275-AC9A-6C556409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CA4-CD2E-49B3-8F72-CCB7B105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1A3-BFEF-4FE9-922D-70368859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8F7-4565-4E0D-BD12-D9FC86E0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BF6-5FBC-46A8-85ED-C3A85301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194-4761-41CD-8A20-3D9EDD93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FB6-FF82-4332-95FC-A1FE59BD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6FD-7328-46A8-9E9E-8CFB7892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088-3DFD-4C9E-BDBC-7DE415E4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005-89B7-4725-A5C1-679232D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1E9-0883-49E2-9E0A-51063A0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25DB-E115-42CB-9474-333987D320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8F2F-AC71-4D62-9200-6D398C962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6.xml"/><Relationship Id="rId14" Type="http://schemas.openxmlformats.org/officeDocument/2006/relationships/slide" Target="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" Target="slide20.xml"/><Relationship Id="rId18" Type="http://schemas.openxmlformats.org/officeDocument/2006/relationships/slide" Target=""/><Relationship Id="rId19" Type="http://schemas.openxmlformats.org/officeDocument/2006/relationships/slide" Target="slide22.xml"/><Relationship Id="rId20" Type="http://schemas.openxmlformats.org/officeDocument/2006/relationships/slide" Target=""/><Relationship Id="rId21" Type="http://schemas.openxmlformats.org/officeDocument/2006/relationships/slide" Target="slide24.xml"/><Relationship Id="rId22" Type="http://schemas.openxmlformats.org/officeDocument/2006/relationships/slide" Target=""/><Relationship Id="rId23" Type="http://schemas.openxmlformats.org/officeDocument/2006/relationships/slide" Target="slide26.xml"/><Relationship Id="rId24" Type="http://schemas.openxmlformats.org/officeDocument/2006/relationships/slide" Target=""/><Relationship Id="rId25" Type="http://schemas.openxmlformats.org/officeDocument/2006/relationships/slide" Target="slide28.xml"/><Relationship Id="rId26" Type="http://schemas.openxmlformats.org/officeDocument/2006/relationships/slide" Target=""/><Relationship Id="rId27" Type="http://schemas.openxmlformats.org/officeDocument/2006/relationships/slide" Target="slide30.xml"/><Relationship Id="rId28" Type="http://schemas.openxmlformats.org/officeDocument/2006/relationships/slide" Target=""/><Relationship Id="rId29" Type="http://schemas.openxmlformats.org/officeDocument/2006/relationships/slide" Target="slide32.xml"/><Relationship Id="rId30" Type="http://schemas.openxmlformats.org/officeDocument/2006/relationships/slide" Target=""/><Relationship Id="rId31" Type="http://schemas.openxmlformats.org/officeDocument/2006/relationships/slide" Target="slide34.xml"/><Relationship Id="rId32" Type="http://schemas.openxmlformats.org/officeDocument/2006/relationships/slide" Target=""/><Relationship Id="rId33" Type="http://schemas.openxmlformats.org/officeDocument/2006/relationships/slide" Target="slide36.xml"/><Relationship Id="rId34" Type="http://schemas.openxmlformats.org/officeDocument/2006/relationships/slide" Target=""/><Relationship Id="rId35" Type="http://schemas.openxmlformats.org/officeDocument/2006/relationships/slide" Target="slide38.xml"/><Relationship Id="rId36" Type="http://schemas.openxmlformats.org/officeDocument/2006/relationships/slide" Target=""/><Relationship Id="rId37" Type="http://schemas.openxmlformats.org/officeDocument/2006/relationships/slide" Target="slide40.xml"/><Relationship Id="rId38" Type="http://schemas.openxmlformats.org/officeDocument/2006/relationships/slide" Target=""/><Relationship Id="rId39" Type="http://schemas.openxmlformats.org/officeDocument/2006/relationships/slide" Target="slide42.xml"/><Relationship Id="rId40" Type="http://schemas.openxmlformats.org/officeDocument/2006/relationships/slide" Target=""/><Relationship Id="rId41" Type="http://schemas.openxmlformats.org/officeDocument/2006/relationships/slide" Target="slide44.xml"/><Relationship Id="rId42" Type="http://schemas.openxmlformats.org/officeDocument/2006/relationships/slide" Target=""/><Relationship Id="rId43" Type="http://schemas.openxmlformats.org/officeDocument/2006/relationships/slide" Target="slide46.xml"/><Relationship Id="rId44" Type="http://schemas.openxmlformats.org/officeDocument/2006/relationships/slide" Target=""/><Relationship Id="rId45" Type="http://schemas.openxmlformats.org/officeDocument/2006/relationships/slide" Target="slide48.xml"/><Relationship Id="rId46" Type="http://schemas.openxmlformats.org/officeDocument/2006/relationships/slide" Target=""/><Relationship Id="rId47" Type="http://schemas.openxmlformats.org/officeDocument/2006/relationships/slide" Target="slide50.xml"/><Relationship Id="rId48" Type="http://schemas.openxmlformats.org/officeDocument/2006/relationships/slide" Target=""/><Relationship Id="rId4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roomtco.cosn.org/gartner_intro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ncfs.org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sba.org/site/page_micro.asp?TrackID=&amp;CID=82&amp;DID=214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9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1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6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9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2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4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9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1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5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6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grades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pour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300816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Cat and Girl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4800"/>
            <a:ext cx="8839080" cy="72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me people’s view of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some view the role of technology in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great reason to chart the course of your district’s technology plan  by using the required 9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wo to 10 ye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estimated range of replacement schedules for various districts across the state as reported by MDE personn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classroomtco.cosn.org/gartner_intro.ht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841320"/>
            <a:ext cx="8229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URL for information related to the Total Cost of Ownership  and Case Studies to assist districts with costs and Needs Assessme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19846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schooltechleadership.org/ptla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CASTLE URL link that provides a Principals Technology Leadership Assess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03228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81916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entified as a “last resort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522360"/>
            <a:ext cx="78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 donated or outdated technology equipment as opposed to new resources by a review of Technology Plans and interviews from Technology Speciali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55340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echnology Planning Guide for Minnesota School Districts, Charter Schools, Nonpublic Library, and Public Libra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7871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sk th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190980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do you determine the technology needs of staff and stude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04036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34528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272736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400"/>
            <a:ext cx="6095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ensure that all Minnesota children in grades K-12 and children from historically under served populations have access to the computer technolo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-205560"/>
            <a:ext cx="62481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partial Mission Statement of the Minnesota Computers for Schools organizations as found a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mncf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19864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low down on education’s most important high tech meetings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23479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eschoolnew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1162080"/>
            <a:ext cx="624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Mary.Mehsikomer@state.m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o is the person I email at the Minnesota Department of Education with questions regarding Technology Pla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ducational Lea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117576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driving force behind sound technology implementation and vision within a distric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-1072440"/>
            <a:ext cx="80010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requirements for plans as found i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ducation.state.mn.us/mdeprod/groups/Library/documents/Report/003528.pd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 a leader determines technology nee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27162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Look, Listen, &amp; Lea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9846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formation to make us think and consider our technology go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705960"/>
            <a:ext cx="624816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Did Your K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as found on Scott McCloud’s website Dangerously Irreleva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dyouknow.w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gital Immigrants versus Digital Na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52884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students versus educators as describes in the article by Marc Prens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marcprensky.com/writing/default.as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71764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gital  or Technological Div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561960"/>
            <a:ext cx="4419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gap between the have and have not's in Technology accessibility, education, and materials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27082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ometime I wonder “What Works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850680"/>
            <a:ext cx="88390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ttp://ies.ed.gov/ncee/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096560"/>
            <a:ext cx="7391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 – Rate Communication Dis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CLB Title II Part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crosoft Cy Pres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brary Services &amp; Technology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e Funded Regional Library Telecommunications 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remarkable mem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198936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ow old were you  and where were you when you first used a compu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888840"/>
            <a:ext cx="6248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bbreviation of a form of communication or an organization servicing school media and information technology profession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1620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ME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memoweb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53208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cient Philosop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r South Central Regional Area Communications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1575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SOCRAT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ttp://www.projectsocrate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area around me I cherish or how I know about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307296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My Sp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98324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intricate network suggesting something that was formed by wea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235260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web of a spider or the World Wide Web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26640"/>
            <a:ext cx="86104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possible sources of available discounts or funding after a district completes a 4 year Technology Plan and submits it to the Minnesota Department of Educ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passageway or the founder of Microso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271764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/Who is (Bill)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Gat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-259200"/>
            <a:ext cx="769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ning &amp; Needs 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sion, Goals, Objectives, &amp; Strateg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icies &amp;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chnology Infrastructure, Management, &amp;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the Media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ff Development &amp; 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dget for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le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9177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nine required criteria in a Technology Pla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2696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nsba.org/site/page_micro.asp?TrackID=&amp;CID=82&amp;DID=2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5320"/>
            <a:ext cx="62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URL for the website of the National School Board Association to assist with Technology Planning Guidance &amp; other resources for administrators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033720"/>
            <a:ext cx="66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MHunt</cp:lastModifiedBy>
  <dcterms:modified xsi:type="dcterms:W3CDTF">2007-05-01T02:11:45Z</dcterms:modified>
  <cp:revision>177</cp:revision>
  <dc:subject/>
  <dc:title>Blank Jeopardy</dc:title>
</cp:coreProperties>
</file>